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A38C4-7E81-4E19-8AA3-72244CF53B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C2C65-E834-45B2-9332-5FBD5D27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709AD-4D22-4D8C-9385-53E7F31DB5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823-E30D-42FC-994A-D35FA282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5C1-6A52-4F26-A409-0E4CB86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6C5-A645-499D-A3E7-14744F4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900-3F2A-4574-BDA9-F12C6FC3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41B-3543-41DB-80A5-50245E3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577-79DF-4AF7-8C83-5E172A4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300-3883-4FB3-A93B-2B026B3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0F4-2639-4550-B35F-90177A0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B29-5009-41B5-8C89-A9369788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501-D48E-4696-A15E-0355FAF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F29-261F-4232-9B15-AC2D6AC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A40-4E24-4CBE-A44B-73259B9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CECD9-EDB2-46EE-8A18-DD6F87CC730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0D32B-9919-45C3-9B82-21AD7B99DD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pr.org/templates/story/story.php?storyId=88466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Interest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31-33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“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li Lilly Bandi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1938240" y="1417680"/>
            <a:ext cx="546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erest Group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rganized group of individuals that seeks to influence public policy. Also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obb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62360" y="4002120"/>
            <a:ext cx="3105000" cy="65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201840" y="3268800"/>
            <a:ext cx="2441880" cy="243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2276640" y="3133800"/>
            <a:ext cx="4595760" cy="257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5"/>
          <a:stretch/>
        </p:blipFill>
        <p:spPr>
          <a:xfrm>
            <a:off x="2620800" y="2446200"/>
            <a:ext cx="40100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xis de Tocquevi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691160" y="1177920"/>
            <a:ext cx="399564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le 5"/>
          <p:cNvSpPr/>
          <p:nvPr/>
        </p:nvSpPr>
        <p:spPr>
          <a:xfrm>
            <a:off x="457200" y="2405160"/>
            <a:ext cx="4970520" cy="23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Americans of all ages, all conditions, and all dispositions constantly form associations.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25760" y="1600200"/>
            <a:ext cx="46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erences between factions were inevit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tions would be controlled through size and diversity of nation as well as through government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868560" cy="3585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57200" y="5003640"/>
            <a:ext cx="3868560" cy="1099080"/>
          </a:xfrm>
          <a:prstGeom prst="rect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Liberty is to faction what air is to fire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 Groups: Good or Evi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rican Criticisms of Interest Grou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 not offer equal representation to all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% believe lobbyists bribe Congres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dislike interest groups as a whole, but we like those who represent our view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29:01Z</dcterms:created>
  <dc:creator>Katie Madison</dc:creator>
  <dc:description/>
  <dc:language>en-US</dc:language>
  <cp:lastModifiedBy>FAdmin</cp:lastModifiedBy>
  <dcterms:modified xsi:type="dcterms:W3CDTF">2012-01-02T14:56:00Z</dcterms:modified>
  <cp:revision>6</cp:revision>
  <dc:subject/>
  <dc:title>Introduction to Interest Groups</dc:title>
</cp:coreProperties>
</file>